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D378-9FEA-4B34-8AEE-926F020F7D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D1C-91C3-457C-ACF5-271B6C2DF5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A814-6E8D-4D1C-A30A-15B5F2A9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5E54-4C10-41FA-90C6-FCF04101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683B-1489-4355-835D-BD5F2F43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FA30-AFE3-4AF1-8BBC-5BC2070C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7669-8A6D-49D8-AF0D-219A8ED2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D8C7-3A0A-4441-B46F-448627F9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70EC-CA61-40D6-A80A-332F76A5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8C46-B701-4821-BA15-9B6CB3A9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72CC-8B19-4C2F-8DE0-44F8AB17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514F-620C-49BC-A890-1443C002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4C7B-5E2A-42FB-8F0E-EF8172C9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8BE-A8CE-4C78-8F0B-711155CF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6085-9A30-4CC6-B2B9-C5330D4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AE20-5AD6-4F21-95F0-F8EF6EA0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D1D3-54A0-4FB8-B85E-95A62CFD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FEB1-A7D4-4105-B3C8-474804F5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A4F4-12E8-43ED-89C2-32B00EE7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B854-2F9B-49CB-990E-0D6D61B7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9BF83-DBA8-412A-8B7B-9519B6C5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72CA-8A15-4CB3-B3D8-3FC1DCF0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9000C-5CD8-4A4B-B175-CD96D773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036E-6F8D-495B-8E66-A3AF3422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748-EBCF-4B16-8883-D6FF66BA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961BB-5B67-4D84-AB67-6A96B218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C2F4-C1DE-4DFE-9978-4C7CD231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F4820-045E-48B2-8530-AB3E658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3449-E783-433C-8E41-8761C633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F048-6F88-4A49-AC6E-92695CCF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0BD0-D730-421A-90D7-14B5C2AB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58E8-CCC4-48E7-925E-ECDAFEC2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D1371-DF8D-4578-AE2A-310892AD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BCB6B-85C2-4D5A-8EEC-2C895481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C1D14-0D65-47D0-89F0-A3034A87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353-E5D2-4D75-9CF9-E35A2901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B68B-FDA7-4963-9434-05CC3262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142B-43DF-4770-B3B2-39DB9684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E458D-4C46-4C67-AFFC-089C523B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C3241-D17F-4307-9FA8-072558A3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61FF5-8BD2-491D-BAA0-9D0F62C1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1768A-20F5-4D28-8A34-B1EA1D65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626A-B4CC-47A1-9DBD-70CA6D16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37E99-02CD-49DA-B831-54E8E4AA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5F8BD-EBB3-4BA6-A688-F52FAFF6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D80-2B82-4DCF-B42B-28BE0C26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2FC-A9E1-4BB5-BCDE-D115BE17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3FD-7CC1-440D-85B1-B1F44D06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6484-5E19-41E6-9637-352EC9A6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788-7BF5-4901-A8FC-EE130CBE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21A7-9F09-46A0-BF31-ED4D55373814}" type="slidenum">
              <a:rPr b="1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dd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8"/>
          <p:cNvSpPr/>
          <p:nvPr/>
        </p:nvSpPr>
        <p:spPr>
          <a:xfrm rot="20011800">
            <a:off x="2027160" y="-730080"/>
            <a:ext cx="1327320" cy="8323200"/>
          </a:xfrm>
          <a:custGeom>
            <a:avLst/>
            <a:gdLst/>
            <a:ahLst/>
            <a:rect l="l" t="t" r="r" b="b"/>
            <a:pathLst>
              <a:path w="1327169" h="8323367">
                <a:moveTo>
                  <a:pt x="955" y="0"/>
                </a:moveTo>
                <a:lnTo>
                  <a:pt x="1318112" y="654885"/>
                </a:lnTo>
                <a:cubicBezTo>
                  <a:pt x="1320286" y="3274913"/>
                  <a:pt x="1324995" y="5703339"/>
                  <a:pt x="1327169" y="8323367"/>
                </a:cubicBezTo>
                <a:lnTo>
                  <a:pt x="0" y="7667068"/>
                </a:lnTo>
                <a:cubicBezTo>
                  <a:pt x="1270" y="4829700"/>
                  <a:pt x="-315" y="2837368"/>
                  <a:pt x="95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0"/>
          <p:cNvSpPr/>
          <p:nvPr/>
        </p:nvSpPr>
        <p:spPr>
          <a:xfrm rot="18357600">
            <a:off x="4147200" y="-1913760"/>
            <a:ext cx="541440" cy="11312640"/>
          </a:xfrm>
          <a:custGeom>
            <a:avLst/>
            <a:gdLst/>
            <a:ahLst/>
            <a:rect l="l" t="t" r="r" b="b"/>
            <a:pathLst>
              <a:path w="541232" h="11312532">
                <a:moveTo>
                  <a:pt x="1600" y="393968"/>
                </a:moveTo>
                <a:lnTo>
                  <a:pt x="541232" y="0"/>
                </a:lnTo>
                <a:cubicBezTo>
                  <a:pt x="540071" y="4024582"/>
                  <a:pt x="527680" y="7287950"/>
                  <a:pt x="526519" y="11312532"/>
                </a:cubicBezTo>
                <a:lnTo>
                  <a:pt x="0" y="10597786"/>
                </a:lnTo>
                <a:cubicBezTo>
                  <a:pt x="533" y="7196513"/>
                  <a:pt x="1067" y="3795241"/>
                  <a:pt x="1600" y="3939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Rectangle 13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5" name="Rectangle 13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Rectangle 14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8" name="Rectangl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Rectangle 15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6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62" name="Oval 16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Picture 5" descr="Lots of fun ideas to create my own wall art!  :)"/>
          <p:cNvPicPr/>
          <p:nvPr/>
        </p:nvPicPr>
        <p:blipFill>
          <a:blip r:embed="rId6"/>
          <a:stretch/>
        </p:blipFill>
        <p:spPr>
          <a:xfrm>
            <a:off x="-1976400" y="1441440"/>
            <a:ext cx="14288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11"/>
          <p:cNvGrpSpPr/>
          <p:nvPr/>
        </p:nvGrpSpPr>
        <p:grpSpPr>
          <a:xfrm>
            <a:off x="-319320" y="-589320"/>
            <a:ext cx="9608040" cy="8042040"/>
            <a:chOff x="-319320" y="-589320"/>
            <a:chExt cx="9608040" cy="8042040"/>
          </a:xfrm>
        </p:grpSpPr>
        <p:sp>
          <p:nvSpPr>
            <p:cNvPr id="66" name="Rectangle 8"/>
            <p:cNvSpPr/>
            <p:nvPr/>
          </p:nvSpPr>
          <p:spPr>
            <a:xfrm rot="20011800">
              <a:off x="2027160" y="-729720"/>
              <a:ext cx="1326960" cy="8323200"/>
            </a:xfrm>
            <a:custGeom>
              <a:avLst/>
              <a:gdLst/>
              <a:ahLst/>
              <a:rect l="l" t="t" r="r" b="b"/>
              <a:pathLst>
                <a:path w="1327169" h="8323367">
                  <a:moveTo>
                    <a:pt x="955" y="0"/>
                  </a:moveTo>
                  <a:lnTo>
                    <a:pt x="1318112" y="654885"/>
                  </a:lnTo>
                  <a:cubicBezTo>
                    <a:pt x="1320286" y="3274913"/>
                    <a:pt x="1324995" y="5703339"/>
                    <a:pt x="1327169" y="8323367"/>
                  </a:cubicBezTo>
                  <a:lnTo>
                    <a:pt x="0" y="7667068"/>
                  </a:lnTo>
                  <a:cubicBezTo>
                    <a:pt x="1270" y="4829700"/>
                    <a:pt x="-315" y="2837368"/>
                    <a:pt x="9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9"/>
            <p:cNvSpPr/>
            <p:nvPr/>
          </p:nvSpPr>
          <p:spPr>
            <a:xfrm rot="2414400">
              <a:off x="4973400" y="-1415520"/>
              <a:ext cx="819000" cy="9681840"/>
            </a:xfrm>
            <a:custGeom>
              <a:avLst/>
              <a:gdLst/>
              <a:ahLst/>
              <a:rect l="l" t="t" r="r" b="b"/>
              <a:pathLst>
                <a:path w="819146" h="9682338">
                  <a:moveTo>
                    <a:pt x="7626" y="680378"/>
                  </a:moveTo>
                  <a:lnTo>
                    <a:pt x="818269" y="0"/>
                  </a:lnTo>
                  <a:cubicBezTo>
                    <a:pt x="818561" y="2996955"/>
                    <a:pt x="818854" y="5993911"/>
                    <a:pt x="819146" y="8990866"/>
                  </a:cubicBezTo>
                  <a:lnTo>
                    <a:pt x="0" y="9682338"/>
                  </a:lnTo>
                  <a:cubicBezTo>
                    <a:pt x="1630" y="6384711"/>
                    <a:pt x="5996" y="3978005"/>
                    <a:pt x="7626" y="6803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 rot="18357600">
              <a:off x="4147200" y="-1914120"/>
              <a:ext cx="541080" cy="11312640"/>
            </a:xfrm>
            <a:custGeom>
              <a:avLst/>
              <a:gdLst/>
              <a:ahLst/>
              <a:rect l="l" t="t" r="r" b="b"/>
              <a:pathLst>
                <a:path w="541232" h="11312532">
                  <a:moveTo>
                    <a:pt x="1600" y="393968"/>
                  </a:moveTo>
                  <a:lnTo>
                    <a:pt x="541232" y="0"/>
                  </a:lnTo>
                  <a:cubicBezTo>
                    <a:pt x="540071" y="4024582"/>
                    <a:pt x="527680" y="7287950"/>
                    <a:pt x="526519" y="11312532"/>
                  </a:cubicBezTo>
                  <a:lnTo>
                    <a:pt x="0" y="10597786"/>
                  </a:lnTo>
                  <a:cubicBezTo>
                    <a:pt x="533" y="7196513"/>
                    <a:pt x="1067" y="3795241"/>
                    <a:pt x="1600" y="3939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1"/>
            <p:cNvSpPr/>
            <p:nvPr/>
          </p:nvSpPr>
          <p:spPr>
            <a:xfrm rot="15304200">
              <a:off x="4299840" y="249480"/>
              <a:ext cx="545760" cy="9615600"/>
            </a:xfrm>
            <a:custGeom>
              <a:avLst/>
              <a:gdLst/>
              <a:ahLst/>
              <a:rect l="l" t="t" r="r" b="b"/>
              <a:pathLst>
                <a:path w="545184" h="9615802">
                  <a:moveTo>
                    <a:pt x="9411" y="0"/>
                  </a:moveTo>
                  <a:lnTo>
                    <a:pt x="545184" y="144168"/>
                  </a:lnTo>
                  <a:cubicBezTo>
                    <a:pt x="544662" y="3840419"/>
                    <a:pt x="545078" y="5919551"/>
                    <a:pt x="544556" y="9615802"/>
                  </a:cubicBezTo>
                  <a:lnTo>
                    <a:pt x="0" y="9473797"/>
                  </a:lnTo>
                  <a:cubicBezTo>
                    <a:pt x="2303" y="5729490"/>
                    <a:pt x="7108" y="3744307"/>
                    <a:pt x="94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 rot="460800">
              <a:off x="6219360" y="-51840"/>
              <a:ext cx="268200" cy="6959520"/>
            </a:xfrm>
            <a:custGeom>
              <a:avLst/>
              <a:gdLst/>
              <a:ahLst/>
              <a:rect l="l" t="t" r="r" b="b"/>
              <a:pathLst>
                <a:path w="268180" h="6960250">
                  <a:moveTo>
                    <a:pt x="0" y="28895"/>
                  </a:moveTo>
                  <a:lnTo>
                    <a:pt x="268131" y="0"/>
                  </a:lnTo>
                  <a:cubicBezTo>
                    <a:pt x="268685" y="2661239"/>
                    <a:pt x="264389" y="4266898"/>
                    <a:pt x="264943" y="6928137"/>
                  </a:cubicBezTo>
                  <a:lnTo>
                    <a:pt x="2114" y="6960250"/>
                  </a:lnTo>
                  <a:cubicBezTo>
                    <a:pt x="1409" y="4649798"/>
                    <a:pt x="705" y="2339347"/>
                    <a:pt x="0" y="2889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F3D1-EE07-4184-B963-37E50CE862F3}" type="slidenum">
              <a:rPr b="1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dd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 rot="20011800">
            <a:off x="2027160" y="-730080"/>
            <a:ext cx="1327320" cy="8323200"/>
          </a:xfrm>
          <a:custGeom>
            <a:avLst/>
            <a:gdLst/>
            <a:ahLst/>
            <a:rect l="l" t="t" r="r" b="b"/>
            <a:pathLst>
              <a:path w="1327169" h="8323367">
                <a:moveTo>
                  <a:pt x="955" y="0"/>
                </a:moveTo>
                <a:lnTo>
                  <a:pt x="1318112" y="654885"/>
                </a:lnTo>
                <a:cubicBezTo>
                  <a:pt x="1320286" y="3274913"/>
                  <a:pt x="1324995" y="5703339"/>
                  <a:pt x="1327169" y="8323367"/>
                </a:cubicBezTo>
                <a:lnTo>
                  <a:pt x="0" y="7667068"/>
                </a:lnTo>
                <a:cubicBezTo>
                  <a:pt x="1270" y="4829700"/>
                  <a:pt x="-315" y="2837368"/>
                  <a:pt x="95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rot="18357600">
            <a:off x="4147200" y="-1913760"/>
            <a:ext cx="541440" cy="11312640"/>
          </a:xfrm>
          <a:custGeom>
            <a:avLst/>
            <a:gdLst/>
            <a:ahLst/>
            <a:rect l="l" t="t" r="r" b="b"/>
            <a:pathLst>
              <a:path w="541232" h="11312532">
                <a:moveTo>
                  <a:pt x="1600" y="393968"/>
                </a:moveTo>
                <a:lnTo>
                  <a:pt x="541232" y="0"/>
                </a:lnTo>
                <a:cubicBezTo>
                  <a:pt x="540071" y="4024582"/>
                  <a:pt x="527680" y="7287950"/>
                  <a:pt x="526519" y="11312532"/>
                </a:cubicBezTo>
                <a:lnTo>
                  <a:pt x="0" y="10597786"/>
                </a:lnTo>
                <a:cubicBezTo>
                  <a:pt x="533" y="7196513"/>
                  <a:pt x="1067" y="3795241"/>
                  <a:pt x="1600" y="3939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Rectangle 13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26" name="Rectangle 13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ectangle 14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29" name="Rectangle 14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Rectangle 15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Oval 16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33" name="Oval 16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35FB-F7C8-475D-9CBF-D3D6E15C0928}" type="slidenum">
              <a:rPr b="1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13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77" name="Rectangle 13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Rectangle 14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0" name="Rectangle 14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Rectangle 15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Oval 16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4" name="Oval 16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434343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01AB-CE7A-4147-9ACE-3E4050878501}" type="slidenum">
              <a:rPr b="1" lang="en-GB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resentationmagazine.com/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189000" y="2066760"/>
            <a:ext cx="8851680" cy="14018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Trebuchet MS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Placeholder 1" descr=""/>
          <p:cNvPicPr/>
          <p:nvPr/>
        </p:nvPicPr>
        <p:blipFill>
          <a:blip r:embed="rId1"/>
          <a:stretch/>
        </p:blipFill>
        <p:spPr>
          <a:xfrm>
            <a:off x="4900680" y="1030320"/>
            <a:ext cx="3481200" cy="66135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77680" y="1011240"/>
            <a:ext cx="369396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4"/>
          <p:cNvSpPr/>
          <p:nvPr/>
        </p:nvSpPr>
        <p:spPr>
          <a:xfrm>
            <a:off x="1144440" y="106992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144440" y="2498760"/>
            <a:ext cx="34099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e these templates for your presen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4554360" y="2498760"/>
            <a:ext cx="3640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on’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sell or distribute these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100000"/>
              </a:lnSpc>
              <a:buClr>
                <a:srgbClr val="000000"/>
              </a:buClr>
              <a:buSzPct val="13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ss off any of our created content as your own 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036800" y="478152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You can find many more free PowerPoint templates on the Presentation Magazine website </a:t>
            </a:r>
            <a:r>
              <a:rPr b="0" lang="en-GB" sz="2000" spc="-1" strike="noStrike" u="sng">
                <a:solidFill>
                  <a:srgbClr val="39a612"/>
                </a:solidFill>
                <a:uFillTx/>
                <a:latin typeface="Arial"/>
                <a:ea typeface="Arial"/>
                <a:hlinkClick r:id="rId1"/>
              </a:rPr>
              <a:t>www.presentationmagazine.com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144440" y="1967040"/>
            <a:ext cx="69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2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Object 3"/>
          <p:cNvGraphicFramePr/>
          <p:nvPr/>
        </p:nvGraphicFramePr>
        <p:xfrm>
          <a:off x="1182600" y="1598760"/>
          <a:ext cx="6732720" cy="37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598760"/>
                    <a:ext cx="6732720" cy="37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29"/>
          <p:cNvSpPr/>
          <p:nvPr/>
        </p:nvSpPr>
        <p:spPr>
          <a:xfrm>
            <a:off x="1143000" y="5397480"/>
            <a:ext cx="55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te: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8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3d2d"/>
                </a:solidFill>
                <a:latin typeface="Trebuchet MS"/>
              </a:rPr>
              <a:t>Text and lines are like th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39a612"/>
                </a:solidFill>
                <a:uFillTx/>
                <a:latin typeface="Trebuchet MS"/>
              </a:rPr>
              <a:t>Hyperlinks like th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9c947"/>
                </a:solidFill>
                <a:uFillTx/>
                <a:latin typeface="Trebuchet MS"/>
              </a:rPr>
              <a:t>Visited hyperlinks like thi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5446800" y="1781280"/>
          <a:ext cx="3171600" cy="1735200"/>
        </p:xfrm>
        <a:graphic>
          <a:graphicData uri="http://schemas.openxmlformats.org/drawingml/2006/table">
            <a:tbl>
              <a:tblPr/>
              <a:tblGrid>
                <a:gridCol w="1585800"/>
                <a:gridCol w="158580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Rectangle 15"/>
          <p:cNvSpPr/>
          <p:nvPr/>
        </p:nvSpPr>
        <p:spPr>
          <a:xfrm>
            <a:off x="1620720" y="4581360"/>
            <a:ext cx="2232000" cy="1368720"/>
          </a:xfrm>
          <a:prstGeom prst="rect">
            <a:avLst/>
          </a:prstGeom>
          <a:solidFill>
            <a:srgbClr val="4999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4500720" y="4581360"/>
            <a:ext cx="2232000" cy="1368720"/>
          </a:xfrm>
          <a:prstGeom prst="rect">
            <a:avLst/>
          </a:prstGeom>
          <a:solidFill>
            <a:srgbClr val="49992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af27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ith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caf2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49992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69c9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59595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ulle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caf27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/>
            <a:ahLst/>
            <a:rect l="l" t="t" r="r" b="b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49992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/>
            <a:ahLst/>
            <a:rect l="l" t="t" r="r" b="b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69c947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/>
            <a:ahLst/>
            <a:rect l="l" t="t" r="r" b="b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59595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3" descr=""/>
          <p:cNvPicPr/>
          <p:nvPr/>
        </p:nvPicPr>
        <p:blipFill>
          <a:blip r:embed="rId1"/>
          <a:stretch/>
        </p:blipFill>
        <p:spPr>
          <a:xfrm>
            <a:off x="7943760" y="5672160"/>
            <a:ext cx="838440" cy="1004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6840" y="4463640"/>
            <a:ext cx="638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3" name="Rounded Rectangle 4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3809880" cy="2906640"/>
          </a:xfrm>
          <a:prstGeom prst="rect">
            <a:avLst/>
          </a:prstGeom>
          <a:ln w="0">
            <a:noFill/>
          </a:ln>
        </p:spPr>
      </p:pic>
      <p:pic>
        <p:nvPicPr>
          <p:cNvPr id="274" name="Rounded Rectangle 5" descr=""/>
          <p:cNvPicPr/>
          <p:nvPr/>
        </p:nvPicPr>
        <p:blipFill>
          <a:blip r:embed="rId2"/>
          <a:stretch/>
        </p:blipFill>
        <p:spPr>
          <a:xfrm>
            <a:off x="5035680" y="890640"/>
            <a:ext cx="3822480" cy="2906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"/>
          <p:cNvPicPr/>
          <p:nvPr/>
        </p:nvPicPr>
        <p:blipFill>
          <a:blip r:embed="rId3"/>
          <a:stretch/>
        </p:blipFill>
        <p:spPr>
          <a:xfrm>
            <a:off x="7943760" y="5662440"/>
            <a:ext cx="838440" cy="1005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3:35:13Z</dcterms:created>
  <dc:creator>Presentation Magazine</dc:creator>
  <dc:description/>
  <dc:language>en-US</dc:language>
  <cp:lastModifiedBy>Information Systems Center</cp:lastModifiedBy>
  <dcterms:modified xsi:type="dcterms:W3CDTF">2015-03-27T17:15:09Z</dcterms:modified>
  <cp:revision>13</cp:revision>
  <dc:subject/>
  <dc:title>Standard PowerPoint Template</dc:title>
</cp:coreProperties>
</file>